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23C4-D79C-4112-80C7-690C1C61AC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pictog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ic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0BC – 500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ians 3000BC-10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s 1000BC – 5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500BC – 500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– examine patterns and themes across th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 – A 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– A 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ful ru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o various improvements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alists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s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e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aoh had his own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he rich could affor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researched new ways to treat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lled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tools and jewe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eveloped new surg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doctors who would use med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with India, Africa and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d Egyptian goods for h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herbal reme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y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was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es and records were k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ould be passed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atural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e.g. Sekh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mm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ection forb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ile and Farm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le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important to wa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based medical ideas on the N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BC2C-516A-428D-A03D-D011A687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971-D3B6-4EC3-912A-4AC995CF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490-3540-4FBE-9DD7-37EA118C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B83F-B072-4FD2-B5D7-0C108D25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1D92-0C0F-4446-B859-D9265F15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06AA-BAFF-4BAE-B0B8-3D2DCF6E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DD9-164A-4550-A994-7105EDD3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CE5-E498-434D-9C09-3833ED71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E136-C19F-4AF2-9266-C7537827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49FA-23C4-47CD-B256-9A3DEE40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8A4D-3A28-4CC5-8D6A-2B951125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7F4-A29D-4B35-A85B-BD6416BC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DC8E-FC50-4D6D-8F98-F771B8FCE80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thstat.carleton.ca/~rhfischl/great_pyramid/pyramid.jpg&amp;imgrefurl=http://mathstat.carleton.ca/~rhfischl/great_pyramid/great_pyramid.html&amp;h=398&amp;w=547&amp;sz=68&amp;tbnid=U_AXrTzMU0co1M:&amp;tbnh=94&amp;tbnw=130&amp;hl=en&amp;start=1&amp;prev=/images%3Fq%3Dpyramid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che.ie/HR/Insite/email_vorlage_files/cartoon_money_01.jpg&amp;imgrefurl=http://www.roche.ie/HR/Insite/Insite_July05_Web.html&amp;h=180&amp;w=240&amp;sz=15&amp;tbnid=b24KDO9DGCKRAM:&amp;tbnh=78&amp;tbnw=104&amp;hl=en&amp;start=1&amp;prev=/images%3Fq%3Dmoney%2Bcartoon%26svnum%3D10%26hl%3Den%26lr%3D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arlham.edu/~seidti/iam/papyrus_66a.gif&amp;imgrefurl=http://www.earlham.edu/~seidti/iam/tc_pap66.html&amp;h=650&amp;w=568&amp;sz=334&amp;tbnid=ojruY8Oig9YPLM:&amp;tbnh=135&amp;tbnw=117&amp;hl=en&amp;start=17&amp;prev=/images%3Fq%3Dpapyrus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embers.aol.com/egyptnew/myth/sekmet1.gif&amp;imgrefurl=http://members.aol.com/egyptart/sekmet.html&amp;h=441&amp;w=238&amp;sz=61&amp;tbnid=yLPfAyL_47DV_M:&amp;tbnh=123&amp;tbnw=66&amp;hl=en&amp;start=8&amp;prev=/images%3Fq%3Dsekhmet%26svnum%3D10%26hl%3Den%26lr%3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yram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836640"/>
            <a:ext cx="3025440" cy="165564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Create a pictogra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635280" y="321300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830960" y="321300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84360" y="1484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istockphoto_319828_the_blacksmit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1557360"/>
            <a:ext cx="1225800" cy="136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anti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162864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papyrus_66a"/>
          <p:cNvPicPr/>
          <p:nvPr/>
        </p:nvPicPr>
        <p:blipFill>
          <a:blip r:embed="rId7"/>
          <a:stretch/>
        </p:blipFill>
        <p:spPr>
          <a:xfrm>
            <a:off x="539640" y="4508640"/>
            <a:ext cx="1295640" cy="165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sekmet1"/>
          <p:cNvPicPr/>
          <p:nvPr/>
        </p:nvPicPr>
        <p:blipFill>
          <a:blip r:embed="rId8"/>
          <a:stretch/>
        </p:blipFill>
        <p:spPr>
          <a:xfrm>
            <a:off x="3924360" y="4581360"/>
            <a:ext cx="1873080" cy="151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08"/>
          <p:cNvPicPr/>
          <p:nvPr/>
        </p:nvPicPr>
        <p:blipFill>
          <a:blip r:embed="rId9"/>
          <a:stretch/>
        </p:blipFill>
        <p:spPr>
          <a:xfrm>
            <a:off x="7236000" y="4221000"/>
            <a:ext cx="1728720" cy="2167200"/>
          </a:xfrm>
          <a:prstGeom prst="rect">
            <a:avLst/>
          </a:prstGeom>
          <a:ln w="0">
            <a:noFill/>
          </a:ln>
        </p:spPr>
      </p:pic>
      <p:sp>
        <p:nvSpPr>
          <p:cNvPr id="93" name="Line 14"/>
          <p:cNvSpPr/>
          <p:nvPr/>
        </p:nvSpPr>
        <p:spPr>
          <a:xfrm flipH="1">
            <a:off x="1619280" y="364500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4858920" y="3789360"/>
            <a:ext cx="7308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6804000" y="3716280"/>
            <a:ext cx="504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 flipV="1">
            <a:off x="6516720" y="256500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 flipH="1" flipV="1">
            <a:off x="1908000" y="2924280"/>
            <a:ext cx="43200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 flipV="1">
            <a:off x="4716360" y="29239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Ancient Medic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gypt – A Wealthy Countr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cartoon_money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672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pecialists Docto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3168720" cy="43196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Metal Worke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9" descr="istockphoto_319828_the_blacksmi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628640"/>
            <a:ext cx="3600360" cy="43927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anti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628640"/>
            <a:ext cx="3961080" cy="44658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6" descr="papyrus_6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628640"/>
            <a:ext cx="3672000" cy="45370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6" descr="sekme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024360" cy="4464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he Nile and Farm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08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0:20:15Z</dcterms:created>
  <dc:creator>cjames</dc:creator>
  <dc:description>How did Life in Egypt affect Medicine?</dc:description>
  <cp:keywords>How did Life in Egypt affect Medicine?</cp:keywords>
  <dc:language>en-US</dc:language>
  <cp:lastModifiedBy>LEGION</cp:lastModifiedBy>
  <dcterms:modified xsi:type="dcterms:W3CDTF">2017-07-03T11:22:12Z</dcterms:modified>
  <cp:revision>7</cp:revision>
  <dc:subject>How did Life in Egypt affect Medicine?</dc:subject>
  <dc:title>How did Life in Egypt affect Medicine?</dc:title>
</cp:coreProperties>
</file>